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4BD-58C6-4C49-AEF6-B467965C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C8B-7BB3-4561-BD57-ADA5F842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5B5-836B-4580-A030-3D8AD2A7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052-2BCF-4A69-8EA9-14D4FCAC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753-E035-47DE-883D-96BB1A7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9BF-E1C4-4574-BC37-C9B325B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D3E-2782-40FA-A313-713BA917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AC7-986A-4FD0-99A8-5231DE74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BCF-9C18-4EC8-8B42-E425A018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2AD-1647-4F50-A876-44E7686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F2F-56C9-4789-9D20-1CECF94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D69-0B1D-4F48-B10A-B657C80B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276-E9EB-42BF-A709-5FD1E0E1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49:26Z</dcterms:created>
  <dc:creator>EC Computing Customer</dc:creator>
  <dc:description/>
  <dc:language>en-US</dc:language>
  <cp:lastModifiedBy>mpetrow</cp:lastModifiedBy>
  <dcterms:modified xsi:type="dcterms:W3CDTF">2009-06-30T15:46:57Z</dcterms:modified>
  <cp:revision>17</cp:revision>
  <dc:subject/>
  <dc:title>Slide 1</dc:title>
</cp:coreProperties>
</file>